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A8D-A6C5-43DE-8BD8-1CCED5F4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1FF-32BE-4EAB-87C2-48A90DCB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951-2D88-4700-A6CE-2E82E5B9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364-B631-4F58-8279-4FD7F46E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828-06F1-4E9C-857F-17067C86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594-13BF-4B42-98B7-3BC7FD5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CF9-372A-46C3-9391-574FB1F5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A7B-47C9-488D-AFE9-B912CC7B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499-FFE3-4388-B345-C21D0591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4EA-3473-4207-8514-B062A9CE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738-20D6-4EDD-B4F6-1C6EEC1F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B93-53D7-4CB1-A1B5-39F6FCE5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F480-1353-4CD5-A059-8D9A3CC5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He Reig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3960" y="41907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ds and Music by Peter Furler and Steve Tay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 Copyright 2003 Ariose Music (admin. by EMI CMG Publishing)/Soylent Tunes (admin. by ICG). All rights reserved. Used by per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CLI # 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48720" y="60339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f all the bells ru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rom a thousand steepl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ne rings truer than 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all God’s children sing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lory, glory, halleluja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eigns, He reigns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ing 4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all the powers of darknes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mble at what they’ve just hea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Cause all the powers of darknes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’t drown out a sing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all God’s children sing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lory, glory, halleluja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eigns, He reigns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ing 3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all God’s children sing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lory, glory, halleluja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eig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the song of the redeem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ising from the African pl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the song of the forgive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owning out the Amazon 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289080"/>
            <a:ext cx="89913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ong of Asian believer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lled with God’s holy f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’s every tribe, every tongu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 na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ve song born of a grateful ch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all God’s children sing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lory, glory, halleluja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eigns, He reigns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epeat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Let it rise above the four winds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ught up in the heavenly soun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t praises echo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rom the towers of cathedral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 the faithful gathered undergrou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f all the songs su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rom the dawn of crea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 were meant to pers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ERRY</cp:lastModifiedBy>
  <dcterms:modified xsi:type="dcterms:W3CDTF">2008-07-16T22:41:3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